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1C039-D39B-4C86-BE5D-69AAF0140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8B0C-DEF9-464D-BA75-DD8CD234D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83C8F-DF28-4E24-B711-858AE32FB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F272C-135D-4738-B209-30E598DCB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F8DF8-0A5D-4696-BA7D-1565F55FF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0223-058B-447B-BA1B-6510D837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B38A8-DE79-4F38-AC6F-18ADB350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A2D19-F505-456B-AE1A-97B03AB81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432C4-9654-429D-806F-EE4E2D44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3AC2-4CBE-4CDC-848C-169D077B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EA42-6A97-4CCB-BFBA-69A03174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2AEE-5B28-4843-A20E-4E46517D0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33F2C2D7-E555-4A0E-9A06-F6749E276BFC}"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85A2639-38DE-42C0-AC9E-6528E5AE5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1F194C-28A5-400E-A9CD-C002BC4E8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F61256C8-3318-427E-AEFB-6EB1D228BC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FC30AE-7FA6-40C1-BF51-9FE85A3297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396AAA-634C-4455-BAD4-5B5507DF0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78D757AF-C0D4-4608-9603-972DD9C02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F69AE3-91FF-446A-A153-C124F4B60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2A9EC492-83D9-408C-8AA3-13B142A3BA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8438D561-4B16-4BB1-BC9A-B5173F6D5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8A78EB-2BDC-4B79-8C55-8ABF39EEF1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B3961BBB-5AF9-4C7E-B216-F02DE86B6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9BB77724-72C0-40C5-8541-A54F92A809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2294A0-F0E4-4FFE-9C7E-1D2278F90B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84883B-D2DE-4A55-BF70-D17C1BE2D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4A65BA-F2CC-4913-AB75-BBD6DB408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med"/>
                  <a:tailEnd len="med" type="triangle" w="med"/>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med"/>
                  <a:tailEnd len="med" type="triangle" w="med"/>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72C53AB-98FA-4103-998F-BC2AAEF32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E551ED-99D6-455A-875D-B6D7B7E152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77B58C-56BE-4FA4-BD03-C70E796D7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92AF4B9B-EE0D-476D-98DE-6566374B67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D56490-A517-439A-A84D-49258CC61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0B9B550-811E-49DC-B042-4F706882AA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B94AA5-300B-424C-9D2C-D3C961140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F548653-6960-4536-80E0-FE9A991355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1C8824-BAC4-4696-B642-F00E5D68A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FAEE35-A245-4C79-8507-4EDD87EEDA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41D482BB-B27B-470F-BD62-C1CAAB54C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64ED4DB3-FD55-4D92-884F-AA7F0F226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4652022D-C3B8-4C3A-9E32-901A77989D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D02B80-9FE0-4A5C-A54D-DE1A23C10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